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680-E6E8-4B09-81E2-5A8D7C5D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15C-1320-4392-9E2E-98179061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A38-5269-4700-A4C9-E5061E6A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6F4-F4CF-4A5C-ACE8-12435F95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B891-52AF-4658-8141-957D8F37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3FB2-2C4A-478D-A208-26F0A383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4F90-8CF6-41D6-81F9-855B02B3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1084-78BB-4816-A13A-1A6D19A3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5220-963F-40D5-A34E-4B1BF3D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A009-B826-4E51-A30E-050268FF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90A-70DF-4008-A71F-42E339ED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622-E208-4398-BCE3-72F7958D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45E2-176D-420C-9D0C-44BE46E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53AA-B006-49C6-9409-F8F4362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CE9A-FAF1-4EAE-BD32-389EECB3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5D20-48B6-4727-B029-6A59C5C8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1D16-D9F0-4DC8-87FE-186FF1AE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48A-3299-459F-83CE-435807A1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BE1-78BE-41B1-BF60-9D092E52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98B-CA1E-4E6F-833C-389E59D5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EF9-DC64-4E3C-88B2-3BDBBF86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F8D-1E7F-4813-B129-CFD57A9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593-3E38-48D2-9969-83457CB1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2F9-A3C9-4882-A7EB-5A7B579F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F989-9D64-4D32-81E2-A5F0A0726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DDA-D3A5-4999-81FE-D07678D9F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Long, O Lord?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pistle to the Hebr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2767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8019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, Lesson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rews 7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61-6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acts About Melchized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is a priest after the order of Melchizedek (Hebrews 7:1-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me Melchizedek was a title, meaning “King of Righteousnes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King of Salem, which means, “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Peac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chizedek was a priest of God most hi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unique: he remains a priest perpetually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acts About Melchizede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hing is said about his father or m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genealogy is gi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hing is said of the beginning of his days or the end of his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chizedek was greater than Abraham or Le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chizedek was a type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elchizedek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Meets Abram</a:t>
            </a:r>
            <a:br>
              <a:rPr sz="44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(Genesis 14:18-24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rescues Lot from the four k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chizedek brought bread and wine out to Abram and blessed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in turn gave Melchizedek a tithe (1/10) of all of the spoils from vi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guratively, Levi also gave tithes to Melchizedek before he was even bo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shows that the priesthood of Melchizedek and Christ was superior to the Levitical priest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Need For A New Priesthood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itical priesthood not perfect - a change was necessary (Hebrews 7:11-1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order to change the priesthood, the law also had to ch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as of the tribe of Judah - He could have never have been priest under the old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ise was given by God that a priest would arise after the manner of Melchizedek (Psalm 110: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Levitical Priests Versus Jesu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vitical priests inherited their pos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priesthood perfect, why did God promise a new on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d priests were we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ery priest offered sacrif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i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ests were imperf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ests, High Priests, the tabernacle, and the sacrifices of the Old Testament were temporary and were copies of the real thing to co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ist received His by an endless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sus is completely adequate as our High Pri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sus is holy, without deceit, undefiled, and separated from sinn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offered His sacrifice once and for all, when He offered up Himsel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on is perfect fore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is a mediator of a better covenant with better promi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 New Covenan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tabernacle served as a copy and shadow of the heavenly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the High Priest, seated at the right hand of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a minister of the true tabernacle which the Lord erected and not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also Mediator of a better covenant, which was established on better prom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said through Jeremiah that the days were coming when He would make a new covenant with the house of Israel and Judah (Jeremiah 31: 31-3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rist Is Our High Pries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ist entered heaven with His own b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of animals cleansed the fl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lood of Jesus cleanses the so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mediator of a new covenant so that saints may have an eternal inheri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venly realities require a better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entered heaven itself, taking the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hrist Is Our High Priest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need to offer Himself frequently, because His sacrifice put away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ill return to take those who eagerly await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8:43:09Z</dcterms:created>
  <dc:creator>robert marshall</dc:creator>
  <dc:description/>
  <dc:language>en-US</dc:language>
  <cp:lastModifiedBy>Frank D Vines</cp:lastModifiedBy>
  <dcterms:modified xsi:type="dcterms:W3CDTF">2007-05-06T03:24:00Z</dcterms:modified>
  <cp:revision>6</cp:revision>
  <dc:subject/>
  <dc:title>How Long, O Lord?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95451867</vt:r8>
  </property>
  <property fmtid="{D5CDD505-2E9C-101B-9397-08002B2CF9AE}" pid="3" name="_AuthorEmail">
    <vt:lpwstr>robertdmarshall@bellsouth.net</vt:lpwstr>
  </property>
  <property fmtid="{D5CDD505-2E9C-101B-9397-08002B2CF9AE}" pid="4" name="_AuthorEmailDisplayName">
    <vt:lpwstr>Robert Marshall</vt:lpwstr>
  </property>
  <property fmtid="{D5CDD505-2E9C-101B-9397-08002B2CF9AE}" pid="5" name="_EmailSubject">
    <vt:lpwstr>Q13L10.ppt</vt:lpwstr>
  </property>
  <property fmtid="{D5CDD505-2E9C-101B-9397-08002B2CF9AE}" pid="6" name="_ReviewingToolsShownOnce">
    <vt:lpwstr/>
  </property>
</Properties>
</file>